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E60-9CB2-4B4A-AC3E-D85EED4D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D33-111D-4047-8620-00E871B51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6D0-7205-41C3-8209-2AF21C44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C699-4E3B-431D-893E-DC5DE510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4D9D-B815-4B66-BC86-8377488EC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06CD-1612-44B1-9E68-375E4D663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B804-9AF1-4A89-8571-28073A3DB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0ED0-4AAC-49E1-8DB5-4E368E419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FBE0-502C-427F-AD97-64570CFE3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46A2-D539-47F6-A7FB-D1E98DDB81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20B7-4299-41B8-872C-E568B9FAA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4FC6-4E79-4D27-9C0E-6994B2EF7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2A52-E81A-4036-8740-5CA397DE1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29FC-D262-4E56-BA56-376F3AE33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00A8-DF11-42A7-A70C-CAAD03DE1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46DF-A895-41E8-9C30-CE636FF0E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B8F6-22F5-4F0A-936E-A60D9C6EA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F647326E-E8A3-4385-A54C-F12807CF34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3E059EF1-05FB-4DAB-809B-28B0C2A065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rtitive articles in French to expr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o form the partitive, use the pre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 a definite article. Although the words some and any are often omitted in English, the partitive must always be used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08_02_p134a"/>
          <p:cNvPicPr/>
          <p:nvPr/>
        </p:nvPicPr>
        <p:blipFill>
          <a:blip r:embed="rId1"/>
          <a:stretch/>
        </p:blipFill>
        <p:spPr>
          <a:xfrm>
            <a:off x="1066680" y="4343400"/>
            <a:ext cx="65818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3B67F2D1-BD83-4768-B4CC-FD1961E02C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partitive articles are only used with non-count nouns (nouns whose quantity cannot be expressed by      a num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icl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means some, but it is the plural form of the indefinite article, not the par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08_02_p134b"/>
          <p:cNvPicPr/>
          <p:nvPr/>
        </p:nvPicPr>
        <p:blipFill>
          <a:blip r:embed="rId1"/>
          <a:stretch/>
        </p:blipFill>
        <p:spPr>
          <a:xfrm>
            <a:off x="1295280" y="2666880"/>
            <a:ext cx="6782040" cy="11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08_02_p134c"/>
          <p:cNvPicPr/>
          <p:nvPr/>
        </p:nvPicPr>
        <p:blipFill>
          <a:blip r:embed="rId2"/>
          <a:stretch/>
        </p:blipFill>
        <p:spPr>
          <a:xfrm>
            <a:off x="1447920" y="4876920"/>
            <a:ext cx="66294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97B4CF5D-3715-4C34-AE04-B1E2634A94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a negative response to a question asked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itive structure, as with indefinite articles, alw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s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08_02_p134d"/>
          <p:cNvPicPr/>
          <p:nvPr/>
        </p:nvPicPr>
        <p:blipFill>
          <a:blip r:embed="rId1"/>
          <a:stretch/>
        </p:blipFill>
        <p:spPr>
          <a:xfrm>
            <a:off x="1447920" y="2824200"/>
            <a:ext cx="6487920" cy="159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8_02_p134e"/>
          <p:cNvPicPr/>
          <p:nvPr/>
        </p:nvPicPr>
        <p:blipFill>
          <a:blip r:embed="rId2"/>
          <a:stretch/>
        </p:blipFill>
        <p:spPr>
          <a:xfrm>
            <a:off x="2895480" y="44197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173B8775-FA3F-44BE-801F-2FDB3F0936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ssayez"/>
          <p:cNvPicPr/>
          <p:nvPr/>
        </p:nvPicPr>
        <p:blipFill>
          <a:blip r:embed="rId1"/>
          <a:stretch/>
        </p:blipFill>
        <p:spPr>
          <a:xfrm>
            <a:off x="568440" y="1371600"/>
            <a:ext cx="804852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82640" y="2590920"/>
          <a:ext cx="7848720" cy="35812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ira boit __________ eau minérale tous les soir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 frère mange __________ éclair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-ce qu’il y a __________ sucre pour le café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y a __________ kilo de sucre sur la tab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, merci, je ne prends __________ frite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buvons __________ limonad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4"/>
          <p:cNvSpPr/>
          <p:nvPr/>
        </p:nvSpPr>
        <p:spPr>
          <a:xfrm>
            <a:off x="914400" y="1600200"/>
            <a:ext cx="771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étez les phrases. Choisissez le partitif,  l’article indéfini 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 de/d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5"/>
          <p:cNvSpPr/>
          <p:nvPr/>
        </p:nvSpPr>
        <p:spPr>
          <a:xfrm>
            <a:off x="322092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Comic Sans MS"/>
              </a:rPr>
              <a:t>de 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19T02:31:18Z</dcterms:modified>
  <cp:revision>37</cp:revision>
  <dc:subject>Structures 8.2</dc:subject>
  <dc:title>PROMENADES</dc:title>
</cp:coreProperties>
</file>